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942-62F5-4EB9-8ADE-F2FCBF90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0A3-E743-4979-BA90-AB4B15A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C1E-D50C-41BC-950A-3AE86C24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9CA-1FE6-4B85-9B95-6901DB9F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C8F-2C7E-4039-9553-30D738E9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A64-4B11-4C4E-86FC-99ADCAC6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9DFA-797D-403F-838F-802F3AB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4164-D064-4DF7-99B5-871CDCF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997-26E8-4539-87F9-0C54D85A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D83-3EE5-46C0-B6BC-1560BF00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58B-0317-4F54-8FCD-C442FF4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BD4-C37A-4C39-89B3-10C56F3B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625D-1DBD-4EC7-9481-021366D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9DD-FC6C-422E-AC47-9089EA8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5C3-E4F2-4EAD-A767-D01F8943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17A3-2CAF-4EB7-BB90-4DC05AD5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105-85B5-46A8-9A00-F3B268F2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5CC-46E5-4A18-8424-896B7C84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528-4841-44D7-88E7-866F423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B47-6B1C-4483-9160-F65886F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6CD-A9E7-4EA8-A7F7-6C0B962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865-96B4-4867-8BE6-E83EBD2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FA3-1124-499C-9FC7-BD264F9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896-5066-4483-95B3-070CAF0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0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880" y="6248160"/>
            <a:ext cx="129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BA095-0AD7-415A-8967-FC61C0CFC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1680"/>
            <a:ext cx="1440" cy="13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38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160"/>
            <a:ext cx="15210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5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160"/>
            <a:ext cx="1216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A0EC348-CEF1-4447-8239-E5528310BC18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eaching religion in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Moment of si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ible Cl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1957320" cy="16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But Not Invented When Bill of Rights Was Writ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s &amp; P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